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881B-EF29-4214-8752-FC202E6AD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11A4-6C2E-4FCA-8DD1-9DBDD4599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07A-5CDD-4D95-BB40-B43EA327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AC7C-16E0-427F-AA5D-3BCC179D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CAC8-48D1-4153-A42B-03A50642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250-90DF-4EBF-8634-30FF0272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2687-8F9C-48AB-A127-1F3298A0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6A7-6BF0-47CE-8904-EF4DF3A9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CBA-CB22-4C2D-A211-AFEEBF0C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F627-7017-446D-99F7-6402BFB8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677-E4D1-40F5-9D97-9AAC43C2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BE8-8F3F-4237-9580-B4F6ED3B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428-850A-43E2-B8B1-55133DFA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DF35-9222-4393-B412-30AED5E6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7AEB-D722-467C-BECD-747641391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6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um Sheik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91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Yo soy Anum. Tengo catorce años. Yo soy feliz y emocionada. Vivo en New York City. Tengo dos hermanas. Amo alimento y voleibo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38862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ual Burger King son tu en y tienes                                                                                                   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327672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Nosotras estamos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n Burger King ahora mismo!                                                                     Nai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                        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iero alimento!! Donde esta Naimah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¡Buenos días, amiga bonita! ¿cómo estás?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cias, Mireya. Tu eres un hambrienta chika.                                                                       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743200" y="60199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. Ella es también una chica loca. 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6"/>
          <p:cNvSpPr/>
          <p:nvPr/>
        </p:nvSpPr>
        <p:spPr>
          <a:xfrm>
            <a:off x="21337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Photo on 2011-11-29 at 13.54.jpg"/>
          <p:cNvPicPr/>
          <p:nvPr/>
        </p:nvPicPr>
        <p:blipFill>
          <a:blip r:embed="rId5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1350361690236.jpg"/>
          <p:cNvPicPr/>
          <p:nvPr/>
        </p:nvPicPr>
        <p:blipFill>
          <a:blip r:embed="rId6"/>
          <a:stretch/>
        </p:blipFill>
        <p:spPr>
          <a:xfrm flipH="1">
            <a:off x="2133360" y="3809880"/>
            <a:ext cx="533160" cy="609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anumfakebook.jpg"/>
          <p:cNvPicPr/>
          <p:nvPr/>
        </p:nvPicPr>
        <p:blipFill>
          <a:blip r:embed="rId7"/>
          <a:stretch/>
        </p:blipFill>
        <p:spPr>
          <a:xfrm>
            <a:off x="2133720" y="2514600"/>
            <a:ext cx="457200" cy="546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naimahfakebook.jpg"/>
          <p:cNvPicPr/>
          <p:nvPr/>
        </p:nvPicPr>
        <p:blipFill>
          <a:blip r:embed="rId8"/>
          <a:stretch/>
        </p:blipFill>
        <p:spPr>
          <a:xfrm>
            <a:off x="2133720" y="3181320"/>
            <a:ext cx="457200" cy="53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mireyafakebook.jpg"/>
          <p:cNvPicPr/>
          <p:nvPr/>
        </p:nvPicPr>
        <p:blipFill>
          <a:blip r:embed="rId9"/>
          <a:stretch/>
        </p:blipFill>
        <p:spPr>
          <a:xfrm>
            <a:off x="2133720" y="4495680"/>
            <a:ext cx="457200" cy="4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4" descr="1350361690236.jpg"/>
          <p:cNvPicPr/>
          <p:nvPr/>
        </p:nvPicPr>
        <p:blipFill>
          <a:blip r:embed="rId10"/>
          <a:stretch/>
        </p:blipFill>
        <p:spPr>
          <a:xfrm flipH="1">
            <a:off x="2133360" y="510552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mireyafakebook.jpg"/>
          <p:cNvPicPr/>
          <p:nvPr/>
        </p:nvPicPr>
        <p:blipFill>
          <a:blip r:embed="rId11"/>
          <a:stretch/>
        </p:blipFill>
        <p:spPr>
          <a:xfrm>
            <a:off x="2133720" y="6019920"/>
            <a:ext cx="4572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8:28:07Z</dcterms:modified>
  <cp:revision>109</cp:revision>
  <dc:subject/>
  <dc:title>Profile</dc:title>
</cp:coreProperties>
</file>